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A28A-3308-4EB3-B181-7B9120B9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8F5C-CD97-41CA-85EB-3A222FB795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9008-7997-44F8-884A-1E92071119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6A1-896C-45B2-9F13-57CC0EED6F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244-710C-4D3F-A4AC-FCAB6041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AB9-4E16-4083-9ED1-2955C1F5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7E3-58E1-4BE6-854C-D8748938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C41-3F18-4E50-AA65-89A8F5B4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3568-2C87-4399-885B-1E2AC65C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810E-3427-4625-824C-0A76970B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FE9F-8B66-4469-A777-4C287F8F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1C8-7F79-494B-A8BA-F4151E5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DACB-75CA-4FE7-A6BB-3017CEBD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428A-3460-4A36-B689-0BFAB446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37F-21F4-4A7C-B269-7E7A2274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8BE-193A-45BE-B932-6D9AA31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E296-E35F-4433-AFFA-6CBA6083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F422-1A58-4305-8B31-05A04F15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31C2-23FB-4C61-B16F-CDEE65A5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699D-D015-4D98-91F2-36BF00ED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09D9-016F-4329-95A2-CC449959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DD1-6BE3-4457-A557-A0C113F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0AA-216C-4E9E-AFBC-01F70BB9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A84-B326-44FB-ADA9-BC80445A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C2D2-E89F-4743-B653-243988AC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F57-79B7-47F5-91B9-8CD358B0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1E0-5800-4879-B503-D137BDD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BF7-3522-48E0-9534-061F51A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0677-27E2-4CF9-9B49-7D14B72F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9749-E6E5-43EE-97FB-82A8A74C5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in your notes directly after the last less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Name two weaknesses of the Articles of Confederation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84520" y="3200400"/>
            <a:ext cx="3774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54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Name the rebellion that occurred during 1786-1787 over farm foreclosures in Massachusett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2057400" y="3276720"/>
            <a:ext cx="4784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30080" y="2057040"/>
            <a:ext cx="573732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DEFINE </a:t>
            </a: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UNICAMERAL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0" y="182880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22T12:52:14Z</dcterms:modified>
  <cp:revision>122</cp:revision>
  <dc:subject/>
  <dc:title>D/O: TO EXPLAIN AND IDENTIFY PROBLEMS OF ECONOMICS</dc:title>
</cp:coreProperties>
</file>